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8187-364C-488D-A029-914F9780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E8A-4F6C-44E9-A151-8DC736A1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DE77-49CA-4344-87EC-666A38A4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4C43-1CB4-428C-83ED-BF737540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4AA2-3534-41A3-8552-2A75030F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097E-81E6-4C0C-8E9C-86E362C2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E1CD-5622-4310-86DD-90E93877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CA9C-3673-4AB2-ACF9-EF0D2C94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B703-636B-42B0-A3DD-5FDC398F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A47F-4D1F-47FD-ACF7-0FC36210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8755-8C2A-4BB2-A845-06C67CD1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7CE-9029-45EF-9592-6E696AD4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A325-CBA9-448B-BCC4-325A4F6B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DA39-8B67-409F-A015-339BB1DD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D567-3B5D-4E49-9353-83630822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1D30-147A-4E9E-80FA-73919432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F919-7BFC-417F-8570-E8BDC2AB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1C2A-081A-47A7-93D6-3D2D2EE9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212-2E17-4528-AB4A-B41F467B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6D23-3BF9-4204-B980-1C0A4FDC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FD62-D0CC-4FFF-9297-65E1C0B2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F6E-DCA5-4D49-B61F-86032F08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BB1-AB93-43A1-982E-35140E4A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582-80D1-4E9E-8A4D-0EF2B2A5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25D3-E917-4209-8AE9-C173BE89C38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B27D-9F39-4FBD-8C7A-33312ABA306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9000"/>
            <a:ext cx="6585120" cy="1795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екторная графика.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исуем солнышко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71280" y="4051080"/>
            <a:ext cx="6769080" cy="21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егодня вы научитесь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исовать во встроенном графическом редакторе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Wo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OpenOffice.org Wri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вать и редактировать векторные рисун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пользовать градиентные залив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18900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рофимов П.В. 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школа № 8 г. Старая Р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8B61-41FA-4345-AC01-E3C3182C4FE1}" type="slidenum">
              <a:t>1</a:t>
            </a:fld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рнёмся к улыбке - закрасьте её, измените размер и переместите на мордочку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27640" y="1873080"/>
            <a:ext cx="4147920" cy="40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A1B5-4209-4D05-85D5-EEFD2DD241DE}" type="slidenum">
              <a:t>10</a:t>
            </a:fld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771640" y="1785960"/>
            <a:ext cx="6372360" cy="40370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273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фигуры - Линии -   Полили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щелчками нарисуйте корону вокруг солнышк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Порядок -   На задний пла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281E-6C0C-4611-B65F-AB6CA602C1C6}" type="slidenum">
              <a:t>11</a:t>
            </a:fld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3529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кройте список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Цвет заливк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выбер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Способы заливки…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раскрывшемся окне установите опции согласно рисунку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24360" y="2133720"/>
            <a:ext cx="5219640" cy="400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EF5-8269-499A-B969-71F63455A512}" type="slidenum">
              <a:t>12</a:t>
            </a:fld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632720" cy="68738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-360" y="3068280"/>
            <a:ext cx="3313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берите для короны жёлтый цвет ли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т что должно получитьс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A0E-85F9-4F4C-B1C6-083D5D7F2651}" type="slidenum">
              <a:t>13</a:t>
            </a:fld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84692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ля тех, кто справился с предыдущим заданием рекомендуем самостоятельно дополнить рисун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36360" y="1325520"/>
            <a:ext cx="9144000" cy="561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83BA-54E0-461E-BA74-1ACA6EB32CEB}" type="slidenum">
              <a:t>14</a:t>
            </a:fld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полнение упражн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ключ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панель рисова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одним из следующих способов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ид - Панели инструментов - 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контекстном меню любой панели (оно вызывается щелчком правой кнопки мыши) выбер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на панели инструмент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любом случае появится (или пропадёт, если она была включена) панель рисования. Обычно она располагается в нижней части окна. С ней мы сегодня и работа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07F-FA40-45AF-B879-9A1C741E6813}" type="slidenum">
              <a:t>2</a:t>
            </a:fld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. Залив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рисуйте жёлтый кру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359892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Ова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нарисуйте круг диаметром около 4-5 с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кройте списо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Цвет залив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и выберите жёлтый цвет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писк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Цвет лин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выберит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Нет лин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40360" y="2637000"/>
            <a:ext cx="5003640" cy="166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6F8-496A-438F-BA78-C0563035B817}" type="slidenum">
              <a:t>3</a:t>
            </a:fld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Группиров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Рисуем глаз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43214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образите рядом с жёлтым кругом белый эллипс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исуйте рядом ещё один эллипс поменьше и залейте его чёрным цветом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чёрный эллипс на белый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делите чёрный эллипс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держивая нажатой клавиш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Shift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щёлкните по белому эллипсу - теперь выделены сразу оба эллипс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211640" y="2649600"/>
            <a:ext cx="4932360" cy="164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0BA-0CB6-4235-A8FF-A5DC190CAEBF}" type="slidenum">
              <a:t>4</a:t>
            </a:fld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Группиров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Рисуем гла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280" y="2565000"/>
            <a:ext cx="3598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  Группирова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глаз на мордочк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помощью клавиш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Ctr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копируйте глаз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6720" y="2060640"/>
            <a:ext cx="3108600" cy="31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45F2-9062-462A-B8CD-87CA45BC4D2E}" type="slidenum">
              <a:t>5</a:t>
            </a:fld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Дуга. Изменение форм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исуем носик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37418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фигуры - Основные фигуры -   Дуг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исуйте дуг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ватите один из жёлтых ромбиков-маркеров и разверните дугу примерно на три четверти круг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952720" y="2637000"/>
            <a:ext cx="6156360" cy="231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91D1-5F6C-44B8-92D4-4190B685580C}" type="slidenum">
              <a:t>6</a:t>
            </a:fld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Дуга. Изменение форм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исуем носик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81492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ватив за угловой белый маркер, измените размер и форму дуг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Свободное вращени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за один из зелёных круглых маркеров разверните дуг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носик на мордочку, если требуется, залейте его жёлтым цветом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2008080"/>
            <a:ext cx="3994200" cy="382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692-579F-460E-B331-DE9B439525A2}" type="slidenum">
              <a:t>7</a:t>
            </a:fld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5. Рисование и изменение линий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исуем улыбку: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828800"/>
            <a:ext cx="828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фигуры - Линии -   Крива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щелчками изобразите улыбку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998800"/>
            <a:ext cx="9144000" cy="32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DF06-3AB3-48C2-A206-35739EAA342C}" type="slidenum">
              <a:t>8</a:t>
            </a:fld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514836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копируйте улыбку и выделите одну из них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  Начать изменение узло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в местах, где вы щёлкали мышкой, появились маленькие квадратики-марке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и маркеры можно перемещать, и за ними будет следовать форма лини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00760" y="768240"/>
            <a:ext cx="3747960" cy="2081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8360" y="3787920"/>
            <a:ext cx="4095720" cy="2520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003640" y="4076640"/>
            <a:ext cx="3621240" cy="21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D0E-4AF4-4F99-9DDF-C05377FD89C4}" type="slidenum">
              <a:t>9</a:t>
            </a:fld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0:41:12Z</dcterms:created>
  <dc:creator>Trofimov</dc:creator>
  <dc:description/>
  <dc:language>en-US</dc:language>
  <cp:lastModifiedBy>Trofimov</cp:lastModifiedBy>
  <dcterms:modified xsi:type="dcterms:W3CDTF">2007-06-10T14:34:19Z</dcterms:modified>
  <cp:revision>15</cp:revision>
  <dc:subject/>
  <dc:title>Векторная графика </dc:title>
</cp:coreProperties>
</file>